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F1D-305B-403F-979A-7AB67B8F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1E1-9923-42B4-9B17-3DA8D90D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BFE-A5C7-4539-A313-0DD8C905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EC6-1589-4992-9D83-73A59480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6B7-7BB2-4986-96DC-D69572D7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CC82-2688-4AB7-8E9E-C357A92E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77E-B90F-4082-AB25-3A1553E3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267-7951-4CA1-8374-F93BD1B1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D32-AA91-446C-813D-9DF6DFD2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0C3-E180-4205-9BFF-727A0666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F92-E135-4791-9C94-DB3EC010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5C9-BBEC-4BCC-9C86-A280979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C120-7F45-4972-826B-D67CC1DA4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3 Spojme hla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iesni zvučn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jme hlasy v piesni zvučn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náš spev sa nesie v dia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ejte tóny ľubozvuč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tvorstvo Pána chvá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svojej nekoneč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om nám sa st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me vďačne meno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všemohúc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y neba vzdal sa pre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covský dom opust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íž on niesol namiesto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lhy naše zaplat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sa začal slobody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äzňov z rabstva vymani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Slávme vďačne meno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všemohúc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ou vinou strašnú trýz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Pán na seba v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mrel za nás, na tretí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hrobu ako víťaz vst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nám, ľuďom, novú p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 spásy darov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Slávme vďačne meno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všemohúceho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13:49Z</dcterms:modified>
  <cp:revision>8</cp:revision>
  <dc:subject/>
  <dc:title>Je veľký náš Pán, on slávy je Kráľ Nech do všetkých strán  spev vrúcnych znie chvál.</dc:title>
</cp:coreProperties>
</file>